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897200" y="1262160"/>
            <a:ext cx="8469000" cy="57276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5274720" y="6579720"/>
            <a:ext cx="189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Impact"/>
                <a:ea typeface="Impact"/>
              </a:rPr>
              <a:t>Dora Steve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2235600" y="3615480"/>
            <a:ext cx="1761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Impact"/>
                <a:ea typeface="Impact"/>
              </a:rPr>
              <a:t>Ruza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Impact"/>
                <a:ea typeface="Impact"/>
              </a:rPr>
              <a:t>Wenclawsk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4287240" y="1399320"/>
            <a:ext cx="1514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  <a:ea typeface="Impact"/>
              </a:rPr>
              <a:t>Inez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  <a:ea typeface="Impact"/>
              </a:rPr>
              <a:t>Milholla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9280440" y="3113640"/>
            <a:ext cx="1044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  <a:ea typeface="Impact"/>
              </a:rPr>
              <a:t>Mabe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  <a:ea typeface="Impact"/>
              </a:rPr>
              <a:t>Vern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7679520" y="4585680"/>
            <a:ext cx="157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  <a:ea typeface="Impact"/>
              </a:rPr>
              <a:t>Lucy Bur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4163040" y="468720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Impact"/>
                <a:ea typeface="Impact"/>
              </a:rPr>
              <a:t>Alice Pau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107080" y="6884640"/>
            <a:ext cx="301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Wants a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Constitution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Amendme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For Vo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6237360" y="7090200"/>
            <a:ext cx="3260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Burns and Pau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et in Englan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5118120" y="8286840"/>
            <a:ext cx="71373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Start with NAWSA, THEY START National Woman's Party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025720" y="1079640"/>
            <a:ext cx="6591240" cy="4572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033560" y="4518360"/>
            <a:ext cx="2971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Dr. Ann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Howard Sha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5238720" y="5280480"/>
            <a:ext cx="3070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Carri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 Black"/>
              </a:rPr>
              <a:t>Chapman Cat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2233800" y="623160"/>
            <a:ext cx="686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National American Woman Suffrage Assoc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70760" y="6168240"/>
            <a:ext cx="294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Wants to G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Voting Right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1919"/>
                </a:solidFill>
                <a:latin typeface="Gill Sans"/>
                <a:ea typeface="Gill Sans"/>
              </a:rPr>
              <a:t>State by Sta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331120" y="635040"/>
            <a:ext cx="2546280" cy="35240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2342880" cy="24447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006640" y="3429000"/>
            <a:ext cx="29592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mily Leight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(Senator’s Wife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7481520" y="4522320"/>
            <a:ext cx="42526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esid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oodrow Wils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967040" y="5854680"/>
            <a:ext cx="3519360" cy="21970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199600" y="8002080"/>
            <a:ext cx="25732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en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eissma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